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12038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6858000" cy="1203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601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9"/>
          </p:nvPr>
        </p:nvSpPr>
        <p:spPr>
          <a:xfrm>
            <a:off x="3885840" y="-360"/>
            <a:ext cx="2971800" cy="601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Img"/>
          </p:nvPr>
        </p:nvSpPr>
        <p:spPr>
          <a:xfrm>
            <a:off x="419040" y="902880"/>
            <a:ext cx="6019920" cy="451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body"/>
          </p:nvPr>
        </p:nvSpPr>
        <p:spPr>
          <a:xfrm>
            <a:off x="914400" y="5719680"/>
            <a:ext cx="5029200" cy="541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ftr" idx="10"/>
          </p:nvPr>
        </p:nvSpPr>
        <p:spPr>
          <a:xfrm>
            <a:off x="-360" y="11437560"/>
            <a:ext cx="2971800" cy="601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 type="sldNum" idx="11"/>
          </p:nvPr>
        </p:nvSpPr>
        <p:spPr>
          <a:xfrm>
            <a:off x="3885840" y="11437560"/>
            <a:ext cx="2971800" cy="601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FAEDD60-280A-475E-BFB7-4C1BD9762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419040" y="903240"/>
            <a:ext cx="6019920" cy="4514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5719680"/>
            <a:ext cx="502920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6200" y="11437920"/>
            <a:ext cx="29718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64A8388-7B5B-4ED5-9C73-900B6523A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419040" y="903240"/>
            <a:ext cx="6019920" cy="4514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5719680"/>
            <a:ext cx="548640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11434680"/>
            <a:ext cx="29718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0663-FDFC-4A0A-8FC0-FA78798D4867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419040" y="903240"/>
            <a:ext cx="6019920" cy="4514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5719680"/>
            <a:ext cx="502920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6200" y="11437920"/>
            <a:ext cx="29718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D3CE780-3778-4C4C-9A52-06CDE6930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419040" y="903240"/>
            <a:ext cx="6019920" cy="4514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5719680"/>
            <a:ext cx="502920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6200" y="11437920"/>
            <a:ext cx="29718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3765DEE-4639-45AE-9CE7-6F6B2D764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419040" y="903240"/>
            <a:ext cx="6019920" cy="4514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5719680"/>
            <a:ext cx="502920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6200" y="11437920"/>
            <a:ext cx="29718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97F22AA-6DC4-441F-9558-AA09D86DC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11437920"/>
            <a:ext cx="29718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437EAE4-C27E-4D27-8386-881208126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419040" y="903240"/>
            <a:ext cx="6019920" cy="4514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5719680"/>
            <a:ext cx="502920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419040" y="903240"/>
            <a:ext cx="6019920" cy="4514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5719680"/>
            <a:ext cx="5029200" cy="541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419040" y="903240"/>
            <a:ext cx="6019920" cy="4514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5719680"/>
            <a:ext cx="5029200" cy="541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C establishe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cal immigration Partnerships (LIPs) in Ontario in two for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ity-wide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eighbourhood-based LIPs in Toronto (total cost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4 mill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munity-wide LIPs in Ontario (total cost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5.2 mill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Note that the amounts are an estim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6200" y="11437920"/>
            <a:ext cx="29718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AB4BE25-E219-47CC-A5B8-94DC1D29C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419040" y="903240"/>
            <a:ext cx="6019920" cy="4514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5719680"/>
            <a:ext cx="502920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6200" y="11437920"/>
            <a:ext cx="29718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5CBB3A2-9565-40BF-AC68-5AF283667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433F-88BA-4ABA-8669-A2BABD91C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A623-7481-4197-BF96-2D43F958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8494-8D6F-4F09-BB0D-5CF43405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C8BE-D396-4BD5-A4CC-45C97E32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FA31-771A-45F0-993A-249106A4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CEE7-A83E-4CD2-B98F-210D1A2F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2F28-2B15-4D6A-AD2E-79732F31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6E31-308C-4749-8BE8-35632592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70A8-B408-4D75-B6EA-57E6561C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43C1-8368-44A5-ABBB-3F7A37F5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33A2-C4A0-4989-BFC7-96A60B68F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5C6C-8116-4649-AE7F-AF39436D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E5B14-1BE1-48DB-86AB-442AC9AAB4C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466C3-AD41-4991-AC2C-7BA428C8AC0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F09D9D-ED18-4360-A317-FF9125F6673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4A8CD-9339-4AAB-A5F1-773D9C42A92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9B5DE-11B5-4944-AAA4-E10986A288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1C8E3-AE5B-45D5-8B82-BED9049395A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077378-488D-46FE-8B4C-09E4FA0ECAE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FE4040-6F39-4F15-B417-7CC667EEECC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05914-CEBC-4BCF-A06B-0363CBA8CCD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F7604-44F8-442B-9B2E-4AFBBEED70A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F050F-862E-46E0-8523-60AF5975302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C96C7-8B2A-4456-AE3A-201B0FB40E5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A80EF-5006-432E-A196-7481103746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E4AB7-2826-45AD-A1DB-DC7BDE313BE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D0C59-48BF-485B-A07D-229F9252583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2D802-7655-4426-8A51-2E1DFD70610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FDE7D-9E6F-43CF-B38F-E35FB75DCB5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E82D3-EC5C-42F5-A508-7056046A15D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D577F-67B1-4928-9635-4AA91AE4C25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3B7A2-210F-4B99-91B0-D349A3A6C0B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8FE98-2AE1-452C-A7A7-EBD207F092A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D40B0-20DA-461D-9C24-4B70E30C5CB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247C3-C1E2-4D57-9A95-60F1C7F963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F4090-158D-455E-BD96-1C4BC9ECF48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59B2D2-5BF3-4118-A1DE-911E66E6C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F41D02-D821-4D1D-B9A0-40D4871D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D44A54-68C0-421A-8122-BBD6C1EF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379111-BF6D-4FB9-A22E-4FBDACC5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9F3FBA-701B-4356-939C-ED154D66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C53A9B-24BA-455B-AFB4-C395EF41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FCDFAA-7FAA-4E6F-8240-A6AAA3A5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D33E2D-3436-491D-9155-C1389BC1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65405B-A835-430D-AB9E-6072B04E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79AC21-7981-4DE9-BDC3-33C59A25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11FD51-A2DF-4FC1-A965-B96FD97AF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42C337-E2FE-40C4-9345-62D12B159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822960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418A-0C0C-4ECD-8E6A-CA26D9F1AD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slide2backgroun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533520" y="990720"/>
            <a:ext cx="8076960" cy="533160"/>
          </a:xfrm>
          <a:prstGeom prst="rect">
            <a:avLst/>
          </a:prstGeom>
          <a:gradFill rotWithShape="0">
            <a:gsLst>
              <a:gs pos="0">
                <a:srgbClr val="1b357d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4"/>
          </p:nvPr>
        </p:nvSpPr>
        <p:spPr>
          <a:xfrm>
            <a:off x="822960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4C66-B5EC-4891-8637-FFABD9D4D8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corp-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Num" idx="5"/>
          </p:nvPr>
        </p:nvSpPr>
        <p:spPr>
          <a:xfrm>
            <a:off x="822960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D85D-6628-484A-951A-B46CE36E3A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8247-51F5-4D83-9C97-6EF850409192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2699-4E9F-4D38-A1BB-128AE2038BA4}" type="slidenum">
              <a:rPr b="0" lang="en-C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539640" y="4952520"/>
            <a:ext cx="3270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898989"/>
                </a:solidFill>
                <a:latin typeface="Verdana"/>
              </a:rPr>
              <a:t>North Etobicoke LIP Summit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898989"/>
                </a:solidFill>
                <a:latin typeface="Verdana"/>
              </a:rPr>
              <a:t>Woodbine Convention Centr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898989"/>
                </a:solidFill>
                <a:latin typeface="Verdana"/>
              </a:rPr>
              <a:t>June 28</a:t>
            </a:r>
            <a:r>
              <a:rPr b="0" lang="en-US" sz="1500" spc="-1" strike="noStrike" baseline="30000">
                <a:solidFill>
                  <a:srgbClr val="898989"/>
                </a:solidFill>
                <a:latin typeface="Verdana"/>
              </a:rPr>
              <a:t>th</a:t>
            </a:r>
            <a:r>
              <a:rPr b="0" lang="en-US" sz="1500" spc="-1" strike="noStrike">
                <a:solidFill>
                  <a:srgbClr val="898989"/>
                </a:solidFill>
                <a:latin typeface="Verdana"/>
              </a:rPr>
              <a:t>, 2011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539640" y="4149720"/>
            <a:ext cx="6985080" cy="647640"/>
          </a:xfrm>
          <a:prstGeom prst="rect">
            <a:avLst/>
          </a:prstGeom>
          <a:solidFill>
            <a:srgbClr val="26368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Diagram 1" descr=""/>
          <p:cNvPicPr/>
          <p:nvPr/>
        </p:nvPicPr>
        <p:blipFill>
          <a:blip r:embed="rId1"/>
          <a:stretch/>
        </p:blipFill>
        <p:spPr>
          <a:xfrm>
            <a:off x="695160" y="171360"/>
            <a:ext cx="7961400" cy="6448680"/>
          </a:xfrm>
          <a:prstGeom prst="rect">
            <a:avLst/>
          </a:prstGeom>
          <a:ln w="0">
            <a:noFill/>
          </a:ln>
        </p:spPr>
      </p:pic>
      <p:sp>
        <p:nvSpPr>
          <p:cNvPr id="270" name="Oval 2"/>
          <p:cNvSpPr/>
          <p:nvPr/>
        </p:nvSpPr>
        <p:spPr>
          <a:xfrm>
            <a:off x="6121440" y="3059280"/>
            <a:ext cx="1782720" cy="1784160"/>
          </a:xfrm>
          <a:prstGeom prst="ellipse">
            <a:avLst/>
          </a:prstGeom>
          <a:solidFill>
            <a:srgbClr val="558ed5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6"/>
          <p:cNvSpPr/>
          <p:nvPr/>
        </p:nvSpPr>
        <p:spPr>
          <a:xfrm>
            <a:off x="3186000" y="190440"/>
            <a:ext cx="1782720" cy="1784520"/>
          </a:xfrm>
          <a:prstGeom prst="ellipse">
            <a:avLst/>
          </a:prstGeom>
          <a:solidFill>
            <a:srgbClr val="9a9072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7"/>
          <p:cNvSpPr/>
          <p:nvPr/>
        </p:nvSpPr>
        <p:spPr>
          <a:xfrm>
            <a:off x="2697120" y="1679400"/>
            <a:ext cx="3749760" cy="3275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8"/>
          <p:cNvSpPr/>
          <p:nvPr/>
        </p:nvSpPr>
        <p:spPr>
          <a:xfrm>
            <a:off x="4572000" y="4594320"/>
            <a:ext cx="1782720" cy="1784160"/>
          </a:xfrm>
          <a:prstGeom prst="ellipse">
            <a:avLst/>
          </a:prstGeom>
          <a:solidFill>
            <a:srgbClr val="e46c0a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9"/>
          <p:cNvSpPr/>
          <p:nvPr/>
        </p:nvSpPr>
        <p:spPr>
          <a:xfrm>
            <a:off x="4572000" y="209520"/>
            <a:ext cx="1782720" cy="1782720"/>
          </a:xfrm>
          <a:prstGeom prst="ellipse">
            <a:avLst/>
          </a:prstGeom>
          <a:solidFill>
            <a:srgbClr val="ccc1da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5705640" y="936720"/>
            <a:ext cx="1782720" cy="1782720"/>
          </a:xfrm>
          <a:prstGeom prst="ellipse">
            <a:avLst/>
          </a:prstGeom>
          <a:solidFill>
            <a:srgbClr val="4f81bd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1"/>
          <p:cNvSpPr/>
          <p:nvPr/>
        </p:nvSpPr>
        <p:spPr>
          <a:xfrm>
            <a:off x="3313080" y="3013200"/>
            <a:ext cx="246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dern No. 20"/>
              </a:rPr>
              <a:t>Partnership Cou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2"/>
          <p:cNvSpPr/>
          <p:nvPr/>
        </p:nvSpPr>
        <p:spPr>
          <a:xfrm>
            <a:off x="3405240" y="662040"/>
            <a:ext cx="116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Municip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3"/>
          <p:cNvSpPr/>
          <p:nvPr/>
        </p:nvSpPr>
        <p:spPr>
          <a:xfrm>
            <a:off x="5924520" y="1585800"/>
            <a:ext cx="1857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Faith-based/ethnic organiz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4"/>
          <p:cNvSpPr/>
          <p:nvPr/>
        </p:nvSpPr>
        <p:spPr>
          <a:xfrm>
            <a:off x="4749840" y="560520"/>
            <a:ext cx="163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Chambers of Commerce/Employ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5"/>
          <p:cNvSpPr/>
          <p:nvPr/>
        </p:nvSpPr>
        <p:spPr>
          <a:xfrm>
            <a:off x="6316560" y="2781360"/>
            <a:ext cx="184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Local Training Bo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6"/>
          <p:cNvSpPr/>
          <p:nvPr/>
        </p:nvSpPr>
        <p:spPr>
          <a:xfrm>
            <a:off x="6288120" y="383544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Social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7"/>
          <p:cNvSpPr/>
          <p:nvPr/>
        </p:nvSpPr>
        <p:spPr>
          <a:xfrm>
            <a:off x="6242040" y="5038560"/>
            <a:ext cx="148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Health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8"/>
          <p:cNvSpPr/>
          <p:nvPr/>
        </p:nvSpPr>
        <p:spPr>
          <a:xfrm>
            <a:off x="5084640" y="5719680"/>
            <a:ext cx="1101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Federal Gover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9"/>
          <p:cNvSpPr/>
          <p:nvPr/>
        </p:nvSpPr>
        <p:spPr>
          <a:xfrm>
            <a:off x="3686040" y="5700600"/>
            <a:ext cx="103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Provincial Gover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0"/>
          <p:cNvSpPr/>
          <p:nvPr/>
        </p:nvSpPr>
        <p:spPr>
          <a:xfrm>
            <a:off x="2146320" y="4908600"/>
            <a:ext cx="1492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Education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21"/>
          <p:cNvSpPr/>
          <p:nvPr/>
        </p:nvSpPr>
        <p:spPr>
          <a:xfrm>
            <a:off x="1193760" y="3871800"/>
            <a:ext cx="169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Employment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2"/>
          <p:cNvSpPr/>
          <p:nvPr/>
        </p:nvSpPr>
        <p:spPr>
          <a:xfrm>
            <a:off x="1465200" y="2211480"/>
            <a:ext cx="1660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Local Settlement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3"/>
          <p:cNvSpPr/>
          <p:nvPr/>
        </p:nvSpPr>
        <p:spPr>
          <a:xfrm>
            <a:off x="2257560" y="1044720"/>
            <a:ext cx="103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Libr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21"/>
          <p:cNvSpPr/>
          <p:nvPr/>
        </p:nvSpPr>
        <p:spPr>
          <a:xfrm>
            <a:off x="680400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63A7-CF2E-4DB7-AA16-02B7210FDBB5}" type="slidenum">
              <a:rPr b="0" lang="en-CA" sz="1200" spc="-1" strike="noStrike">
                <a:solidFill>
                  <a:srgbClr val="1f497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Chart 1" descr=""/>
          <p:cNvPicPr/>
          <p:nvPr/>
        </p:nvPicPr>
        <p:blipFill>
          <a:blip r:embed="rId1"/>
          <a:stretch/>
        </p:blipFill>
        <p:spPr>
          <a:xfrm>
            <a:off x="-19080" y="-19080"/>
            <a:ext cx="9182160" cy="689616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2"/>
          <p:cNvSpPr/>
          <p:nvPr/>
        </p:nvSpPr>
        <p:spPr>
          <a:xfrm>
            <a:off x="8459640" y="6308640"/>
            <a:ext cx="68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2837-F4C3-468A-AA36-A54CB61504BA}" type="slidenum">
              <a:rPr b="0" lang="en-CA" sz="1800" spc="-1" strike="noStrike">
                <a:solidFill>
                  <a:srgbClr val="1f497d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685440" y="144792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Arial"/>
              </a:rPr>
              <a:t>Create LIPs networking mechanism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Arial"/>
              </a:rPr>
              <a:t>Establish a policy forum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Arial"/>
              </a:rPr>
              <a:t>Identify professional development  opportuniti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Next Step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822960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2EB3-F776-490B-8C8B-F2EC2074ED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685440" y="1571400"/>
            <a:ext cx="80010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tional best practi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Arial"/>
              </a:rPr>
              <a:t>Sectoral and cross-sectoral best practic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Arial"/>
              </a:rPr>
              <a:t>Dataset tool for assessment of a Welcoming Communit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Arial"/>
              </a:rPr>
              <a:t>Assessment and Learning Dissemination too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Arial"/>
              </a:rPr>
              <a:t>Developmental Evalua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Methods of Assess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822960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F37F-1AB6-475F-AA28-366E1C828F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533160" y="5214600"/>
            <a:ext cx="3276360" cy="8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Franklin Gothic Medium"/>
                <a:ea typeface="FrankRuehl"/>
              </a:rPr>
              <a:t>Thank You ~ Mer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539280" y="14842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LIPs stems from the Canada-Ontario Immigration Agreement Strategic Plan, Strategy 3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CIC and MCI (Ministry of Citizenship and Immigration) will work with municipalities and federal-provincial government departments to enable partnerships that will integrate newcomers into the economic and social life of Ontario communities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Arial"/>
              </a:rPr>
              <a:t>CIC and MCI developed the LIP initiative, which was further refined, in consultation with the Association of Municipalities of Ontario (AMO) and the City of Toront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822960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65D3-69AC-45B4-B11D-C4C36BAA6B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9280" y="162864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ntario municipalities and regions want to encourage newcomers to settle and stay in their communit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mmunities that are organized, welcoming, and committed to helping newcomers succeed have the best potential to attract and retain new immigran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cal knowledge of the service delivery landscape is essential to building logical, clear, and coordinated settlement service pathways for newcome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ntario municipalities want to provide a community lens on integration of funding decision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Why LIP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822960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4593-787E-4A8E-8FD8-2FB78C5FC9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539280" y="14842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SimSun"/>
              </a:rPr>
              <a:t>The objective of LIPs is to strengthen the role of regions and local communities in the integration of newcomers by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SimSun"/>
              </a:rPr>
              <a:t>Supporting better coordination of integration services, including settlement and language training in local communit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SimSun"/>
              </a:rPr>
              <a:t>Providing a framework to facilitate the development and implementation of sustainable local and regional solutio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SimSun"/>
              </a:rPr>
              <a:t>Supporting the development and implementation of strategies and plans that provide</a:t>
            </a:r>
            <a:r>
              <a:rPr b="1" lang="en-CA" sz="2200" spc="-1" strike="noStrike">
                <a:solidFill>
                  <a:srgbClr val="000000"/>
                </a:solidFill>
                <a:latin typeface="Arial"/>
                <a:ea typeface="SimSun"/>
              </a:rPr>
              <a:t> community-specific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SimSun"/>
              </a:rPr>
              <a:t> solutions for achieving better outcomes for newcome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822960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CAD6-D5AF-4506-9357-602E84DF2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440" y="144792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SimSun"/>
              </a:rPr>
              <a:t>Approximately 34 of the 45 LIPs are in the implementation st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SimSun"/>
              </a:rPr>
              <a:t>CIC continues to support the LIPs’ ability to meet and coordinate their action pla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SimSun"/>
              </a:rPr>
              <a:t>LIPs are being rolled out nationally in those provinces that currently are not devolv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LIPs Upda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822960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183A-2DE2-4A19-B680-9ECC6F57F5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2107-FB20-4F55-A89B-01D0FABBB28E}" type="slidenum">
              <a:rPr b="0" lang="en-C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Diagram 2" descr=""/>
          <p:cNvPicPr/>
          <p:nvPr/>
        </p:nvPicPr>
        <p:blipFill>
          <a:blip r:embed="rId1"/>
          <a:stretch/>
        </p:blipFill>
        <p:spPr>
          <a:xfrm>
            <a:off x="122400" y="615960"/>
            <a:ext cx="882000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"/>
                <a:ea typeface="Arial"/>
              </a:rPr>
              <a:t>Greater Toronto Area Local Immigration Partnersh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2"/>
          <p:cNvSpPr/>
          <p:nvPr/>
        </p:nvSpPr>
        <p:spPr>
          <a:xfrm>
            <a:off x="822960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11C7-4918-4236-8EB9-F22AB15D9F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http://boscleaners.ca/wp-content/uploads/2010/06/Cleaning-Services-in-the-Toronto-Map.gif"/>
          <p:cNvPicPr/>
          <p:nvPr/>
        </p:nvPicPr>
        <p:blipFill>
          <a:blip r:embed="rId1"/>
          <a:stretch/>
        </p:blipFill>
        <p:spPr>
          <a:xfrm>
            <a:off x="536400" y="1566720"/>
            <a:ext cx="7931160" cy="46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"/>
                <a:ea typeface="Arial"/>
              </a:rPr>
              <a:t>Local Immigration Partnerships in Ontario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2"/>
          <p:cNvSpPr/>
          <p:nvPr/>
        </p:nvSpPr>
        <p:spPr>
          <a:xfrm>
            <a:off x="822960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58DD-89E9-4100-9191-C0EBBF007A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rcRect l="34920" t="36025" r="35388" b="12768"/>
          <a:stretch/>
        </p:blipFill>
        <p:spPr>
          <a:xfrm>
            <a:off x="684360" y="1484280"/>
            <a:ext cx="7704000" cy="473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"/>
                <a:ea typeface="Arial"/>
              </a:rPr>
              <a:t>City of Toronto Neighbourhood Local Immigration Partnerships &amp; City Wide L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2"/>
          <p:cNvSpPr/>
          <p:nvPr/>
        </p:nvSpPr>
        <p:spPr>
          <a:xfrm>
            <a:off x="822960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E2AC-B525-4FE5-956B-8D6C12FE6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rcRect l="12362" t="20525" r="29330" b="12116"/>
          <a:stretch/>
        </p:blipFill>
        <p:spPr>
          <a:xfrm>
            <a:off x="785880" y="1600200"/>
            <a:ext cx="750096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6T16:36:58Z</dcterms:created>
  <dc:creator>*</dc:creator>
  <dc:description/>
  <dc:language>en-US</dc:language>
  <cp:lastModifiedBy>Park Inn Guests</cp:lastModifiedBy>
  <dcterms:modified xsi:type="dcterms:W3CDTF">2011-06-23T13:45:42Z</dcterms:modified>
  <cp:revision>131</cp:revision>
  <dc:subject/>
  <dc:title>PowerPoint Presentation</dc:title>
</cp:coreProperties>
</file>